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29431-B307-494E-B17F-5A6FD9835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8684C-31E4-45BF-B15E-62F57E09A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49478-92D3-46A5-B04B-57945EAA1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885BD-80EA-498D-9ADB-6C1E5EDE2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7C55A-6570-4D54-B5B0-7A2C9790D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9D391-4725-44E3-90D2-667F108D9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BD90B-20BE-4117-928E-5B24F717E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4B0FC-CD61-41DA-A30B-1E2BC4A2C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0090-3A1D-495E-8ADD-8135DC8A3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CF82-DA3E-48C3-B512-A85709504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EF0D-EC25-431F-902A-D5BFB0C12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2F719-BA31-40B4-9036-1118CD303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362C-0897-4143-BED4-10D81B460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ecdotal Introduction</a:t>
            </a:r>
            <a:br>
              <a:rPr sz="3200"/>
            </a:br>
            <a:r>
              <a:rPr b="0" lang="en-US" sz="1800" spc="-1" strike="noStrike">
                <a:solidFill>
                  <a:srgbClr val="000000"/>
                </a:solidFill>
                <a:latin typeface="Arial"/>
              </a:rPr>
              <a:t>Use on Expository AND Persuasive Essays for AIMS</a:t>
            </a:r>
            <a:endParaRPr b="0" lang="en-US" sz="1800" spc="-1" strike="noStrike">
              <a:solidFill>
                <a:srgbClr val="000000"/>
              </a:solidFill>
              <a:latin typeface="Arial"/>
            </a:endParaRPr>
          </a:p>
        </p:txBody>
      </p:sp>
      <p:sp>
        <p:nvSpPr>
          <p:cNvPr id="42"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mmmm. My thoughts were a jumble as I looked at Jenna, the young girl sitting across from me. “Smack…smack…smack.” It was easy to see why she did not speak clearly; the huge wad of bubble gum she chomped during the interview was impeding conversation. In addition, she had a Big Gulp and her cell phone on my desk and continually checked her text messages while we talked! Clearly, this prospective employee did not understand the first thing about employment. She lacks the very qualities I am seeking. My employee must be well-mannered, punctual, and dedic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ecdote</a:t>
            </a:r>
            <a:br>
              <a:rPr sz="4400"/>
            </a:br>
            <a:r>
              <a:rPr b="0" lang="en-US" sz="2400" spc="-1" strike="noStrike">
                <a:solidFill>
                  <a:srgbClr val="000000"/>
                </a:solidFill>
                <a:latin typeface="Arial"/>
              </a:rPr>
              <a:t>(It’s just a little story!)</a:t>
            </a:r>
            <a:endParaRPr b="0" lang="en-US" sz="2400" spc="-1" strike="noStrike">
              <a:solidFill>
                <a:srgbClr val="000000"/>
              </a:solidFill>
              <a:latin typeface="Arial"/>
            </a:endParaRPr>
          </a:p>
        </p:txBody>
      </p:sp>
      <p:sp>
        <p:nvSpPr>
          <p:cNvPr id="44" name="PlaceHolder 2"/>
          <p:cNvSpPr>
            <a:spLocks noGrp="1"/>
          </p:cNvSpPr>
          <p:nvPr>
            <p:ph/>
          </p:nvPr>
        </p:nvSpPr>
        <p:spPr>
          <a:xfrm>
            <a:off x="380880" y="1600200"/>
            <a:ext cx="8305920" cy="495288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mmmm. My thoughts were a jumble as I looked at Jenna, the young girl sitting across from me. “Smack…smack…smack.” It was easy to see why she did not speak clearly; the huge wad of bubble gum she chomped during the interview was impeding conversation. In addition, she had a Big Gulp and her cell phone on my desk and continually checked her text messages while we talke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IPS for writing a good anecdote: </a:t>
            </a:r>
            <a:endParaRPr b="0" lang="en-US" sz="20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e first person.</a:t>
            </a:r>
            <a:endParaRPr b="0" lang="en-US" sz="20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clude a name for your character.</a:t>
            </a:r>
            <a:endParaRPr b="0" lang="en-US" sz="2000" spc="-1" strike="noStrike">
              <a:solidFill>
                <a:srgbClr val="000000"/>
              </a:solidFill>
              <a:latin typeface="Arial"/>
            </a:endParaRPr>
          </a:p>
          <a:p>
            <a:pPr lvl="1" marL="990720" indent="-533520">
              <a:lnSpc>
                <a:spcPct val="90000"/>
              </a:lnSpc>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You will use the name AGAIN in your conclusion. </a:t>
            </a:r>
            <a:endParaRPr b="0" lang="en-US" sz="18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e onomatopoeia.</a:t>
            </a:r>
            <a:endParaRPr b="0" lang="en-US" sz="2000" spc="-1" strike="noStrike">
              <a:solidFill>
                <a:srgbClr val="000000"/>
              </a:solidFill>
              <a:latin typeface="Arial"/>
            </a:endParaRPr>
          </a:p>
          <a:p>
            <a:pPr lvl="1" marL="990720" indent="-533520">
              <a:lnSpc>
                <a:spcPct val="90000"/>
              </a:lnSpc>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smack”</a:t>
            </a:r>
            <a:endParaRPr b="0" lang="en-US" sz="2000" spc="-1" strike="noStrike">
              <a:solidFill>
                <a:srgbClr val="000000"/>
              </a:solidFill>
              <a:latin typeface="Arial"/>
            </a:endParaRPr>
          </a:p>
          <a:p>
            <a:pPr lvl="1" marL="990720" indent="-533520">
              <a:lnSpc>
                <a:spcPct val="90000"/>
              </a:lnSpc>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hmmmmm”</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dge Sentenc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early, this prospective employee did not understand the first thing about employment. She lacks the very qualities I am seeking.</a:t>
            </a:r>
            <a:endParaRPr b="0" lang="en-US" sz="3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IPS for writing bridge sentence:</a:t>
            </a:r>
            <a:endParaRPr b="0" lang="en-US" sz="20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o NOT include new information.</a:t>
            </a:r>
            <a:endParaRPr b="0" lang="en-US" sz="20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reat as transition to thesis. </a:t>
            </a:r>
            <a:endParaRPr b="0" lang="en-US" sz="2000" spc="-1" strike="noStrike">
              <a:solidFill>
                <a:srgbClr val="000000"/>
              </a:solidFill>
              <a:latin typeface="Arial"/>
            </a:endParaRPr>
          </a:p>
          <a:p>
            <a:pPr lvl="1" marL="990720" indent="-533520">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is is the “bridge” (get it?!) between the anecdote and the the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employee must be well-mannered, punctual, and dedicat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IPS for writing a good thesis statement:</a:t>
            </a:r>
            <a:endParaRPr b="0" lang="en-US" sz="20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clude three “parts.” </a:t>
            </a:r>
            <a:endParaRPr b="0" lang="en-US" sz="20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ke it parallel.</a:t>
            </a:r>
            <a:endParaRPr b="0" lang="en-US" sz="2000" spc="-1" strike="noStrike">
              <a:solidFill>
                <a:srgbClr val="000000"/>
              </a:solidFill>
              <a:latin typeface="Arial"/>
            </a:endParaRPr>
          </a:p>
          <a:p>
            <a:pPr marL="609480" indent="-609480">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LWAYS place it at the end of your introduction.</a:t>
            </a:r>
            <a:r>
              <a:rPr b="0" lang="en-US" sz="3200" spc="-1" strike="noStrike">
                <a:solidFill>
                  <a:srgbClr val="009999"/>
                </a:solidFill>
                <a:latin typeface="Arial"/>
              </a:rPr>
              <a:t> </a:t>
            </a:r>
            <a:endParaRPr b="0" lang="en-US" sz="32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void “The most important qualities are: ______, _____, ____.</a:t>
            </a:r>
            <a:endParaRPr b="0" lang="en-US" sz="2000" spc="-1" strike="noStrike">
              <a:solidFill>
                <a:srgbClr val="000000"/>
              </a:solidFill>
              <a:latin typeface="Arial"/>
            </a:endParaRPr>
          </a:p>
          <a:p>
            <a:pPr lvl="1" marL="990720" indent="-533520">
              <a:spcBef>
                <a:spcPts val="7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Yucky. </a:t>
            </a:r>
            <a:r>
              <a:rPr b="0" lang="en-US" sz="2000" spc="-1" strike="noStrike">
                <a:solidFill>
                  <a:srgbClr val="009999"/>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4:23:27Z</dcterms:created>
  <dc:creator>ASD</dc:creator>
  <dc:description/>
  <dc:language>en-US</dc:language>
  <cp:lastModifiedBy>ASD</cp:lastModifiedBy>
  <dcterms:modified xsi:type="dcterms:W3CDTF">2010-01-21T17:21:55Z</dcterms:modified>
  <cp:revision>8</cp:revision>
  <dc:subject/>
  <dc:title>Slide 1</dc:title>
</cp:coreProperties>
</file>